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7559675" cy="10691813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090520" y="746280"/>
            <a:ext cx="263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259F-7E7D-48A6-8DBA-704B9295F9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090880" y="746280"/>
            <a:ext cx="263340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7E1A-C518-4FE6-8F83-724CC95CDB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090880" y="746280"/>
            <a:ext cx="263340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79C2-14B1-4136-88D5-EBB4C3E8CD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11" descr="FOND PRODIGY NIGHT_RECTO-V1.jpg"/>
          <p:cNvPicPr/>
          <p:nvPr/>
        </p:nvPicPr>
        <p:blipFill>
          <a:blip r:embed="rId1"/>
          <a:srcRect l="-523" t="174" r="2427" b="508"/>
          <a:stretch/>
        </p:blipFill>
        <p:spPr>
          <a:xfrm>
            <a:off x="-66600" y="-125280"/>
            <a:ext cx="7705800" cy="10888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31"/>
          <p:cNvSpPr/>
          <p:nvPr/>
        </p:nvSpPr>
        <p:spPr>
          <a:xfrm>
            <a:off x="173160" y="1387440"/>
            <a:ext cx="3454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KEY POINTS TO KNOW &amp;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3492360" y="-27000"/>
            <a:ext cx="0" cy="1197000"/>
          </a:xfrm>
          <a:prstGeom prst="line">
            <a:avLst/>
          </a:prstGeom>
          <a:ln w="9360">
            <a:solidFill>
              <a:srgbClr val="5847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necteur droit 25"/>
          <p:cNvSpPr/>
          <p:nvPr/>
        </p:nvSpPr>
        <p:spPr>
          <a:xfrm>
            <a:off x="162000" y="1603440"/>
            <a:ext cx="356220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1"/>
          <p:cNvSpPr/>
          <p:nvPr/>
        </p:nvSpPr>
        <p:spPr>
          <a:xfrm>
            <a:off x="185760" y="1674720"/>
            <a:ext cx="3575160" cy="22075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FOR WHO? 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Demanding women seeking global anti-ageing night c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SKIN CONCERNS: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 visible wrinkles, loss of firmness &amp; elasticity, uneven complexion, lack of radiance, dehydration, tired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RESTORE SKIN YOUTH, NIGHT AFTER N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Deep regeneration – rested features – intense </a:t>
            </a:r>
            <a:r>
              <a:rPr b="0" lang="fr-FR" sz="1000" spc="-1" strike="noStrike">
                <a:solidFill>
                  <a:srgbClr val="ffffff"/>
                </a:solidFill>
                <a:latin typeface="Century Gothic"/>
              </a:rPr>
              <a:t>nurt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IMPROVED GENEROUS TEXTURE FOR BETTER SPREADABILITY AND PENE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USE: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 Apply generously in the evening, after the serum, all over face and n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PRICE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entury Gothic"/>
              </a:rPr>
              <a:t>190 € (PPI CHA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LOGOHR-d"/>
          <p:cNvPicPr/>
          <p:nvPr/>
        </p:nvPicPr>
        <p:blipFill>
          <a:blip r:embed="rId2"/>
          <a:stretch/>
        </p:blipFill>
        <p:spPr>
          <a:xfrm>
            <a:off x="1440" y="-69840"/>
            <a:ext cx="1619280" cy="1168560"/>
          </a:xfrm>
          <a:prstGeom prst="rect">
            <a:avLst/>
          </a:prstGeom>
          <a:ln w="0">
            <a:noFill/>
          </a:ln>
        </p:spPr>
      </p:pic>
      <p:sp>
        <p:nvSpPr>
          <p:cNvPr id="49" name="Line 8"/>
          <p:cNvSpPr/>
          <p:nvPr/>
        </p:nvSpPr>
        <p:spPr>
          <a:xfrm flipV="1">
            <a:off x="0" y="1170000"/>
            <a:ext cx="7561440" cy="9360"/>
          </a:xfrm>
          <a:prstGeom prst="line">
            <a:avLst/>
          </a:prstGeom>
          <a:ln w="9360">
            <a:solidFill>
              <a:srgbClr val="5847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HR-Power-HD"/>
          <p:cNvPicPr/>
          <p:nvPr/>
        </p:nvPicPr>
        <p:blipFill>
          <a:blip r:embed="rId3"/>
          <a:srcRect l="11902" t="27218" r="10962" b="30306"/>
          <a:stretch/>
        </p:blipFill>
        <p:spPr>
          <a:xfrm>
            <a:off x="1692360" y="328680"/>
            <a:ext cx="1655640" cy="511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79"/>
          <p:cNvSpPr/>
          <p:nvPr/>
        </p:nvSpPr>
        <p:spPr>
          <a:xfrm>
            <a:off x="4105440" y="3114720"/>
            <a:ext cx="25905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RESTORE SKIN YOUTH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NIGHT AFTER N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157320" y="4222800"/>
            <a:ext cx="3566880" cy="549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When I look at myself, I see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tired features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sagging skin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loss of density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fine lines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wrinkles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…”; “My complexion is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uneven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…”; “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My skin is dehydrated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I am looking for a skincare that restore my skin during the night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1"/>
          <p:cNvSpPr/>
          <p:nvPr/>
        </p:nvSpPr>
        <p:spPr>
          <a:xfrm>
            <a:off x="144360" y="3978360"/>
            <a:ext cx="3264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CUSTOMER’S KEY WOR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necteur droit 25"/>
          <p:cNvSpPr/>
          <p:nvPr/>
        </p:nvSpPr>
        <p:spPr>
          <a:xfrm>
            <a:off x="163440" y="4194000"/>
            <a:ext cx="356256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8"/>
          <p:cNvSpPr/>
          <p:nvPr/>
        </p:nvSpPr>
        <p:spPr>
          <a:xfrm>
            <a:off x="157320" y="5291280"/>
            <a:ext cx="3566880" cy="4118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Morning after morning, skin is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regenerated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regains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perfect density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 and feels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smoother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. Skin appears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more luminous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deeply soothed 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and </a:t>
            </a:r>
            <a:r>
              <a:rPr b="1" lang="fr-FR" sz="900" spc="-1" strike="noStrike">
                <a:solidFill>
                  <a:srgbClr val="ffffff"/>
                </a:solidFill>
                <a:latin typeface="Century Gothic"/>
              </a:rPr>
              <a:t>intensely nourished</a:t>
            </a: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1"/>
          <p:cNvSpPr/>
          <p:nvPr/>
        </p:nvSpPr>
        <p:spPr>
          <a:xfrm>
            <a:off x="144360" y="5059440"/>
            <a:ext cx="3264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RESULT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necteur droit 25"/>
          <p:cNvSpPr/>
          <p:nvPr/>
        </p:nvSpPr>
        <p:spPr>
          <a:xfrm>
            <a:off x="163440" y="5253120"/>
            <a:ext cx="356256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8"/>
          <p:cNvSpPr/>
          <p:nvPr/>
        </p:nvSpPr>
        <p:spPr>
          <a:xfrm>
            <a:off x="844560" y="6138720"/>
            <a:ext cx="2563920" cy="549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Generous and creamy texture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combined with a relaxing stress-relieving scent of Ylang-Ylang essential oil. Improved for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better spreadability and penetr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1"/>
          <p:cNvSpPr/>
          <p:nvPr/>
        </p:nvSpPr>
        <p:spPr>
          <a:xfrm>
            <a:off x="144360" y="5897520"/>
            <a:ext cx="356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TEX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427640" y="-12528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PRODIGY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4957920" y="387360"/>
            <a:ext cx="1487160" cy="32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8"/>
          <p:cNvSpPr/>
          <p:nvPr/>
        </p:nvSpPr>
        <p:spPr>
          <a:xfrm>
            <a:off x="4140360" y="811080"/>
            <a:ext cx="314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entury Gothic"/>
              </a:rPr>
              <a:t>deep skin restoring concent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entury Gothic"/>
              </a:rPr>
              <a:t>global anti-ageing night c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necteur droit 25"/>
          <p:cNvSpPr/>
          <p:nvPr/>
        </p:nvSpPr>
        <p:spPr>
          <a:xfrm>
            <a:off x="163440" y="6095880"/>
            <a:ext cx="356256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rondir un rectangle avec un coin diagonal 46"/>
          <p:cNvSpPr/>
          <p:nvPr/>
        </p:nvSpPr>
        <p:spPr>
          <a:xfrm>
            <a:off x="108000" y="1231920"/>
            <a:ext cx="3689280" cy="2663640"/>
          </a:xfrm>
          <a:custGeom>
            <a:avLst/>
            <a:gdLst/>
            <a:ahLst/>
            <a:rect l="l" t="t" r="r" b="b"/>
            <a:pathLst>
              <a:path w="3689350" h="2663825">
                <a:moveTo>
                  <a:pt x="443980" y="0"/>
                </a:moveTo>
                <a:lnTo>
                  <a:pt x="3689350" y="0"/>
                </a:lnTo>
                <a:lnTo>
                  <a:pt x="3689350" y="0"/>
                </a:lnTo>
                <a:lnTo>
                  <a:pt x="3689350" y="2219845"/>
                </a:lnTo>
                <a:cubicBezTo>
                  <a:pt x="3689350" y="2465048"/>
                  <a:pt x="3490573" y="2663825"/>
                  <a:pt x="3245370" y="2663825"/>
                </a:cubicBezTo>
                <a:lnTo>
                  <a:pt x="0" y="2663825"/>
                </a:lnTo>
                <a:lnTo>
                  <a:pt x="0" y="2663825"/>
                </a:lnTo>
                <a:lnTo>
                  <a:pt x="0" y="443980"/>
                </a:lnTo>
                <a:cubicBezTo>
                  <a:pt x="0" y="198777"/>
                  <a:pt x="198777" y="0"/>
                  <a:pt x="443980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1"/>
          <p:cNvSpPr/>
          <p:nvPr/>
        </p:nvSpPr>
        <p:spPr>
          <a:xfrm>
            <a:off x="3276720" y="779796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necteur droit 25"/>
          <p:cNvSpPr/>
          <p:nvPr/>
        </p:nvSpPr>
        <p:spPr>
          <a:xfrm>
            <a:off x="260280" y="8051760"/>
            <a:ext cx="698508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8"/>
          <p:cNvSpPr/>
          <p:nvPr/>
        </p:nvSpPr>
        <p:spPr>
          <a:xfrm>
            <a:off x="844560" y="7175520"/>
            <a:ext cx="2879640" cy="6861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For the renovation of the Prodigy Night cream, the pack is improved with a more elegant and feminine colo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The new ‘coffret’ box is also more luxuriou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1"/>
          <p:cNvSpPr/>
          <p:nvPr/>
        </p:nvSpPr>
        <p:spPr>
          <a:xfrm>
            <a:off x="144360" y="6931080"/>
            <a:ext cx="356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PACKAGING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25"/>
          <p:cNvSpPr/>
          <p:nvPr/>
        </p:nvSpPr>
        <p:spPr>
          <a:xfrm>
            <a:off x="163440" y="7147080"/>
            <a:ext cx="356256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4"/>
          <a:srcRect l="14181" t="2853" r="14181" b="7320"/>
          <a:stretch/>
        </p:blipFill>
        <p:spPr>
          <a:xfrm>
            <a:off x="144360" y="6184800"/>
            <a:ext cx="600120" cy="60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lucie.bouttier\Bureau\Lucie\VOLKIER\PDGY\Night\PGY NIGHT - PACKSHOTS\Master-Simple.png"/>
          <p:cNvPicPr/>
          <p:nvPr/>
        </p:nvPicPr>
        <p:blipFill>
          <a:blip r:embed="rId5"/>
          <a:stretch/>
        </p:blipFill>
        <p:spPr>
          <a:xfrm>
            <a:off x="36360" y="7147080"/>
            <a:ext cx="746280" cy="792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1"/>
          <p:cNvSpPr/>
          <p:nvPr/>
        </p:nvSpPr>
        <p:spPr>
          <a:xfrm>
            <a:off x="284040" y="8458200"/>
            <a:ext cx="337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TELOMERES: MARKERS OF CELLULAR AGE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cteur droit 25"/>
          <p:cNvSpPr/>
          <p:nvPr/>
        </p:nvSpPr>
        <p:spPr>
          <a:xfrm>
            <a:off x="272880" y="8640720"/>
            <a:ext cx="338328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8"/>
          <p:cNvSpPr/>
          <p:nvPr/>
        </p:nvSpPr>
        <p:spPr>
          <a:xfrm>
            <a:off x="3956040" y="8658360"/>
            <a:ext cx="34243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The legendary Molecular Bio-Sap</a:t>
            </a:r>
            <a:r>
              <a:rPr b="0" lang="fr-FR" sz="900" spc="-1" strike="noStrike" baseline="30000">
                <a:solidFill>
                  <a:srgbClr val="ffffff"/>
                </a:solidFill>
                <a:latin typeface="Century Gothic"/>
              </a:rPr>
              <a:t>TM</a:t>
            </a: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 enriched with a nymphea alba flower extract,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an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evening primrose extract &amp; DNA phyto guardian: a highly effective new botanical synergy designed to protect telomeres and restore cell vitality by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DEFENDING &amp; REPAIRING DNA AGAINST MICRO-DAMAGES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 (UVA + UVB, oxidative stres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“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PRESSING PAUSE” ON CELLULAR SENESC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1"/>
          <p:cNvSpPr/>
          <p:nvPr/>
        </p:nvSpPr>
        <p:spPr>
          <a:xfrm>
            <a:off x="3971880" y="8424720"/>
            <a:ext cx="336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HR CREATES THE 1ST MOLECULAR NOCTA-SAP</a:t>
            </a:r>
            <a:r>
              <a:rPr b="1" lang="en-US" sz="1000" spc="-1" strike="noStrike" baseline="30000">
                <a:solidFill>
                  <a:srgbClr val="ffffff"/>
                </a:solidFill>
                <a:latin typeface="Century Gothic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cteur droit 25"/>
          <p:cNvSpPr/>
          <p:nvPr/>
        </p:nvSpPr>
        <p:spPr>
          <a:xfrm>
            <a:off x="3960720" y="8640720"/>
            <a:ext cx="338292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84040" y="8713800"/>
            <a:ext cx="335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THE LENGTH OF TELOMERES DETERMINES THE CELLULAR LIFE CYCL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Telomeres 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are the edges of chromosomes, responsible for the transmission of cellular D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They shrink 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during each cell division. After reaching a critical size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cells stop dividing </a:t>
            </a:r>
            <a:r>
              <a:rPr b="0" lang="fr-F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and </a:t>
            </a:r>
            <a:r>
              <a:rPr b="1" lang="fr-F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become senesc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TELOMERES ACT LIKE « CELLULAR GUARDIANS » BY PRESERVING DNA’S INTEGRITY DURING EACH CELL REPL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1"/>
          <p:cNvSpPr/>
          <p:nvPr/>
        </p:nvSpPr>
        <p:spPr>
          <a:xfrm>
            <a:off x="2274840" y="8155080"/>
            <a:ext cx="31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improved targeted action for a deep skin res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FOND PRODIGY NIGHT_VERSO.jpg"/>
          <p:cNvPicPr/>
          <p:nvPr/>
        </p:nvPicPr>
        <p:blipFill>
          <a:blip r:embed="rId1"/>
          <a:srcRect l="448" t="1128" r="3647" b="2976"/>
          <a:stretch/>
        </p:blipFill>
        <p:spPr>
          <a:xfrm>
            <a:off x="0" y="0"/>
            <a:ext cx="7561440" cy="1069344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16"/>
          <p:cNvSpPr/>
          <p:nvPr/>
        </p:nvSpPr>
        <p:spPr>
          <a:xfrm>
            <a:off x="5867280" y="106056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rondir un rectangle avec un coin diagonal 15"/>
          <p:cNvSpPr/>
          <p:nvPr/>
        </p:nvSpPr>
        <p:spPr>
          <a:xfrm>
            <a:off x="185760" y="1190520"/>
            <a:ext cx="5403960" cy="843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“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If you look at your skin in the mirror, what would you like to improve? Show me…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Century Gothic"/>
              </a:rPr>
              <a:t>“</a:t>
            </a:r>
            <a:r>
              <a:rPr b="0" lang="en-US" sz="900" spc="-1" strike="noStrike">
                <a:solidFill>
                  <a:srgbClr val="0070c0"/>
                </a:solidFill>
                <a:latin typeface="Century Gothic"/>
              </a:rPr>
              <a:t>With time, my features are tired / my skin is uncomfortable / it lost density and elasticity / my complexion is uneven / wrinkles and lines are appearing.  I am looking for a skincare that can restore my skin during the night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8"/>
          <p:cNvSpPr/>
          <p:nvPr/>
        </p:nvSpPr>
        <p:spPr>
          <a:xfrm>
            <a:off x="6347880" y="992160"/>
            <a:ext cx="1049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in the mirr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5867280" y="156384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9"/>
          <p:cNvSpPr/>
          <p:nvPr/>
        </p:nvSpPr>
        <p:spPr>
          <a:xfrm>
            <a:off x="6824160" y="1714680"/>
            <a:ext cx="554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entury Gothic"/>
              </a:rPr>
              <a:t>Tre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2"/>
          <p:cNvSpPr/>
          <p:nvPr/>
        </p:nvSpPr>
        <p:spPr>
          <a:xfrm>
            <a:off x="5867280" y="534672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cteur droit 23"/>
          <p:cNvSpPr/>
          <p:nvPr/>
        </p:nvSpPr>
        <p:spPr>
          <a:xfrm>
            <a:off x="5956200" y="575784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24"/>
          <p:cNvSpPr/>
          <p:nvPr/>
        </p:nvSpPr>
        <p:spPr>
          <a:xfrm>
            <a:off x="6576840" y="5491080"/>
            <a:ext cx="773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Enh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26"/>
          <p:cNvSpPr/>
          <p:nvPr/>
        </p:nvSpPr>
        <p:spPr>
          <a:xfrm>
            <a:off x="5867280" y="644832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28"/>
          <p:cNvSpPr/>
          <p:nvPr/>
        </p:nvSpPr>
        <p:spPr>
          <a:xfrm>
            <a:off x="5962680" y="6613560"/>
            <a:ext cx="1396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entury Gothic"/>
              </a:rPr>
              <a:t>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entury Gothic"/>
              </a:rPr>
              <a:t>Beauty Reve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30"/>
          <p:cNvSpPr/>
          <p:nvPr/>
        </p:nvSpPr>
        <p:spPr>
          <a:xfrm>
            <a:off x="5867280" y="710892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32"/>
          <p:cNvSpPr/>
          <p:nvPr/>
        </p:nvSpPr>
        <p:spPr>
          <a:xfrm>
            <a:off x="6674040" y="7251840"/>
            <a:ext cx="7034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entury Gothic"/>
              </a:rPr>
              <a:t>Finali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4"/>
          <p:cNvSpPr/>
          <p:nvPr/>
        </p:nvSpPr>
        <p:spPr>
          <a:xfrm>
            <a:off x="4932360" y="90360"/>
            <a:ext cx="24890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ALES 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rondir un rectangle avec un coin diagonal 21"/>
          <p:cNvSpPr/>
          <p:nvPr/>
        </p:nvSpPr>
        <p:spPr>
          <a:xfrm>
            <a:off x="181080" y="6210360"/>
            <a:ext cx="5472000" cy="398520"/>
          </a:xfrm>
          <a:prstGeom prst="pi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Enhance your skin with Prodigy Powercell Foundation.  From  the moment of application, you will appreciate  its ultra natural “nude effect” and lasting comfort during the da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rondir un rectangle avec un coin diagonal 25"/>
          <p:cNvSpPr/>
          <p:nvPr/>
        </p:nvSpPr>
        <p:spPr>
          <a:xfrm>
            <a:off x="487440" y="6665760"/>
            <a:ext cx="5199120" cy="64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If you have a few moments, I would be delighted to show you how to carry out this beautifying routine at home.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rrondir un rectangle avec un coin diagonal 29"/>
          <p:cNvSpPr/>
          <p:nvPr/>
        </p:nvSpPr>
        <p:spPr>
          <a:xfrm>
            <a:off x="488880" y="7291440"/>
            <a:ext cx="5197680" cy="71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Give the client the opportunity to join the HR address b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Century Gothic"/>
              </a:rPr>
              <a:t>+ propose trial samples of HR produ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984240" y="7121520"/>
            <a:ext cx="2448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en-GB" sz="800" spc="-1" strike="noStrike">
                <a:solidFill>
                  <a:srgbClr val="0070c0"/>
                </a:solidFill>
                <a:latin typeface="Century Gothic"/>
              </a:rPr>
              <a:t>YES: Follow the service proces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70c0"/>
                </a:solidFill>
                <a:latin typeface="Century Gothic"/>
              </a:rPr>
              <a:t>laid out in the FOCUS broch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2"/>
          <p:cNvSpPr/>
          <p:nvPr/>
        </p:nvSpPr>
        <p:spPr>
          <a:xfrm>
            <a:off x="3360600" y="7121520"/>
            <a:ext cx="229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en-GB" sz="800" spc="-1" strike="noStrike">
                <a:solidFill>
                  <a:srgbClr val="0070c0"/>
                </a:solidFill>
                <a:latin typeface="Century Gothic"/>
              </a:rPr>
              <a:t>NO: Offer an appointment according to the customer’s availa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necteur droit 23"/>
          <p:cNvSpPr/>
          <p:nvPr/>
        </p:nvSpPr>
        <p:spPr>
          <a:xfrm>
            <a:off x="5956200" y="688032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necteur droit 23"/>
          <p:cNvSpPr/>
          <p:nvPr/>
        </p:nvSpPr>
        <p:spPr>
          <a:xfrm>
            <a:off x="5956200" y="754056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necteur droit 23"/>
          <p:cNvSpPr/>
          <p:nvPr/>
        </p:nvSpPr>
        <p:spPr>
          <a:xfrm>
            <a:off x="5956200" y="199548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necteur droit 23"/>
          <p:cNvSpPr/>
          <p:nvPr/>
        </p:nvSpPr>
        <p:spPr>
          <a:xfrm>
            <a:off x="5956200" y="149688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23"/>
          <p:cNvSpPr/>
          <p:nvPr/>
        </p:nvSpPr>
        <p:spPr>
          <a:xfrm>
            <a:off x="-108000" y="795960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32"/>
          <p:cNvSpPr/>
          <p:nvPr/>
        </p:nvSpPr>
        <p:spPr>
          <a:xfrm>
            <a:off x="36360" y="7723080"/>
            <a:ext cx="3168720" cy="2721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entury Gothic"/>
              </a:rPr>
              <a:t>PRODIGY NIGHT HAND MODE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252360" y="1962000"/>
            <a:ext cx="5400720" cy="3682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Did you know that like an image photocopied several times, skin cells can lose quality after each cellular replication?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69840" y="1736640"/>
            <a:ext cx="54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H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8"/>
          <p:cNvSpPr/>
          <p:nvPr/>
        </p:nvSpPr>
        <p:spPr>
          <a:xfrm>
            <a:off x="181080" y="1995480"/>
            <a:ext cx="5472000" cy="33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0"/>
          <p:cNvSpPr/>
          <p:nvPr/>
        </p:nvSpPr>
        <p:spPr>
          <a:xfrm>
            <a:off x="6661080" y="511056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"/>
                <a:ea typeface="Wingdings"/>
              </a:rPr>
              <a:t></a:t>
            </a:r>
            <a:r>
              <a:rPr b="0" lang="fr-FR" sz="1400" spc="-1" strike="noStrike">
                <a:solidFill>
                  <a:srgbClr val="a28f76"/>
                </a:solidFill>
                <a:latin typeface="Wingdings 2"/>
                <a:ea typeface="Wingdings 2"/>
              </a:rPr>
              <a:t>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0"/>
          <p:cNvSpPr/>
          <p:nvPr/>
        </p:nvSpPr>
        <p:spPr>
          <a:xfrm>
            <a:off x="7286760" y="3959640"/>
            <a:ext cx="3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 2"/>
                <a:ea typeface="Wingdings 2"/>
              </a:rPr>
              <a:t>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0"/>
          <p:cNvSpPr/>
          <p:nvPr/>
        </p:nvSpPr>
        <p:spPr>
          <a:xfrm>
            <a:off x="6218280" y="395964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"/>
                <a:ea typeface="Wingdings"/>
              </a:rPr>
              <a:t>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"/>
          <p:cNvSpPr/>
          <p:nvPr/>
        </p:nvSpPr>
        <p:spPr>
          <a:xfrm>
            <a:off x="6372360" y="2682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201"/>
          <p:cNvSpPr/>
          <p:nvPr/>
        </p:nvSpPr>
        <p:spPr>
          <a:xfrm>
            <a:off x="6372360" y="3618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202"/>
          <p:cNvSpPr/>
          <p:nvPr/>
        </p:nvSpPr>
        <p:spPr>
          <a:xfrm>
            <a:off x="6372360" y="42372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Prodigy"/>
          <p:cNvPicPr/>
          <p:nvPr/>
        </p:nvPicPr>
        <p:blipFill>
          <a:blip r:embed="rId2"/>
          <a:stretch/>
        </p:blipFill>
        <p:spPr>
          <a:xfrm>
            <a:off x="5575320" y="3411360"/>
            <a:ext cx="914400" cy="91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13-helenarubinstein-prodigy-eyes"/>
          <p:cNvPicPr/>
          <p:nvPr/>
        </p:nvPicPr>
        <p:blipFill>
          <a:blip r:embed="rId3"/>
          <a:stretch/>
        </p:blipFill>
        <p:spPr>
          <a:xfrm>
            <a:off x="6267600" y="4738680"/>
            <a:ext cx="561960" cy="59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6" descr="PRODIGY_POWERCELL"/>
          <p:cNvPicPr/>
          <p:nvPr/>
        </p:nvPicPr>
        <p:blipFill>
          <a:blip r:embed="rId4"/>
          <a:stretch/>
        </p:blipFill>
        <p:spPr>
          <a:xfrm>
            <a:off x="5805360" y="2220840"/>
            <a:ext cx="45432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G:\DPLI_Commun_PCI_HR\Service\Commun_HR\2.EDUCATION\01- SKINCARE\PRODIGY\THE NEW PRODIGY NIGHT EN COURS (CAMILLE + DAMIEN)\ELEMENTS PRODIGY NIGHT DE VOLKIER AU 2 JUILLET\POTS\FERME\PGYNIGHT_POT%20FERME%202805[1].PNG"/>
          <p:cNvPicPr/>
          <p:nvPr/>
        </p:nvPicPr>
        <p:blipFill>
          <a:blip r:embed="rId5"/>
          <a:srcRect l="15316" t="11616" r="16584" b="14698"/>
          <a:stretch/>
        </p:blipFill>
        <p:spPr>
          <a:xfrm>
            <a:off x="6661080" y="3448080"/>
            <a:ext cx="792360" cy="819000"/>
          </a:xfrm>
          <a:prstGeom prst="rect">
            <a:avLst/>
          </a:prstGeom>
          <a:ln w="0">
            <a:noFill/>
          </a:ln>
        </p:spPr>
      </p:pic>
      <p:pic>
        <p:nvPicPr>
          <p:cNvPr id="117" name="Image 1" descr="Powercell_foundation_-Pro_Pow_spf15_GB.psd"/>
          <p:cNvPicPr/>
          <p:nvPr/>
        </p:nvPicPr>
        <p:blipFill>
          <a:blip r:embed="rId6"/>
          <a:stretch/>
        </p:blipFill>
        <p:spPr>
          <a:xfrm>
            <a:off x="6348240" y="5838840"/>
            <a:ext cx="436680" cy="826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0"/>
          <p:cNvSpPr/>
          <p:nvPr/>
        </p:nvSpPr>
        <p:spPr>
          <a:xfrm>
            <a:off x="6661080" y="64486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"/>
                <a:ea typeface="Wingdings"/>
              </a:rPr>
              <a:t>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33"/>
          <p:cNvSpPr/>
          <p:nvPr/>
        </p:nvSpPr>
        <p:spPr>
          <a:xfrm>
            <a:off x="5867280" y="37800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4"/>
          <p:cNvSpPr/>
          <p:nvPr/>
        </p:nvSpPr>
        <p:spPr>
          <a:xfrm>
            <a:off x="6529320" y="536400"/>
            <a:ext cx="819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rondir un rectangle avec un coin diagonal 2"/>
          <p:cNvSpPr/>
          <p:nvPr/>
        </p:nvSpPr>
        <p:spPr>
          <a:xfrm>
            <a:off x="185760" y="608040"/>
            <a:ext cx="5373720" cy="63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Good morning Madam, welcome to Helena Rubinstein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the brand which has more than 100 years of anti-ageing experti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Our products are developed with the highest require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We have an exceptional partnership with LACLINIC-MONTREUX, in Switzerland, that allows us to develop skincares at the frontier of aesthetic medic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nnecteur droit 23"/>
          <p:cNvSpPr/>
          <p:nvPr/>
        </p:nvSpPr>
        <p:spPr>
          <a:xfrm>
            <a:off x="5956200" y="80964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rrondir un rectangle avec un coin diagonal 10"/>
          <p:cNvSpPr/>
          <p:nvPr/>
        </p:nvSpPr>
        <p:spPr>
          <a:xfrm>
            <a:off x="185760" y="2371680"/>
            <a:ext cx="5467320" cy="383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fter a certain number of cellular replications, cells lose the quality of the original cell, as you can see here. </a:t>
            </a:r>
            <a:r>
              <a:rPr b="0" i="1" lang="en-US" sz="800" spc="-1" strike="noStrike">
                <a:solidFill>
                  <a:srgbClr val="ffffff"/>
                </a:solidFill>
                <a:latin typeface="Century Gothic"/>
              </a:rPr>
              <a:t>[show the flip book to the customer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Let me introduce you PRODIGY NIGHT THE DEEP SKIN RESTORING CONCENTRA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 new masterpiece of formulation for a visible restoring effec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The latest research on skin biology,  crowned with a Nobel Prize in 2009, has identified the trigger of CELLULAR SENESCENCE: TELOME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Arial"/>
              </a:rPr>
              <a:t>They are responsible for the transmission of cellular DNA. They shrink during each cell divis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Arial"/>
              </a:rPr>
              <a:t>After reaching a critical size,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  <a:ea typeface="Arial"/>
              </a:rPr>
              <a:t>cells stop dividing </a:t>
            </a:r>
            <a:r>
              <a:rPr b="0" lang="fr-FR" sz="800" spc="-1" strike="noStrike">
                <a:solidFill>
                  <a:srgbClr val="ffffff"/>
                </a:solidFill>
                <a:latin typeface="Century Gothic"/>
                <a:ea typeface="Arial"/>
              </a:rPr>
              <a:t>and </a:t>
            </a:r>
            <a:r>
              <a:rPr b="1" lang="fr-FR" sz="800" spc="-1" strike="noStrike">
                <a:solidFill>
                  <a:srgbClr val="ffffff"/>
                </a:solidFill>
                <a:latin typeface="Century Gothic"/>
                <a:ea typeface="Arial"/>
              </a:rPr>
              <a:t>become senesce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The technology of Prodigy Night cream associates the legendary Molecular Bio-Sap</a:t>
            </a:r>
            <a:r>
              <a:rPr b="0" lang="en-US" sz="800" spc="-1" strike="noStrike" baseline="30000">
                <a:solidFill>
                  <a:srgbClr val="ffffff"/>
                </a:solidFill>
                <a:latin typeface="Century Gothic"/>
              </a:rPr>
              <a:t>TM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 with the Lotus Flower extract to compose the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1" lang="en-US" sz="800" spc="-1" strike="noStrike" baseline="30000">
                <a:solidFill>
                  <a:srgbClr val="ffffff"/>
                </a:solidFill>
                <a:latin typeface="Century Gothic"/>
              </a:rPr>
              <a:t>ST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 Molecular Nocta-Sap</a:t>
            </a:r>
            <a:r>
              <a:rPr b="1" lang="en-US" sz="800" spc="-1" strike="noStrike" baseline="30000">
                <a:solidFill>
                  <a:srgbClr val="ffffff"/>
                </a:solidFill>
                <a:latin typeface="Century Gothic"/>
              </a:rPr>
              <a:t>TM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 highly effective new botanical synergy designed to protect telomeres and restore cell vitality by defending DNA against micro-damages*, such as oxidative stress and “pressing pause” on cellular senescence* (cell ageing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Morning after morning, your skin is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regenerated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, regains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perfect density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 and feels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smoother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. Your skin appears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more luminous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deeply soothed 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nd </a:t>
            </a:r>
            <a:r>
              <a:rPr b="1" lang="fr-FR" sz="800" spc="-1" strike="noStrike">
                <a:solidFill>
                  <a:srgbClr val="ffffff"/>
                </a:solidFill>
                <a:latin typeface="Century Gothic"/>
              </a:rPr>
              <a:t>intensely nourished</a:t>
            </a:r>
            <a:r>
              <a:rPr b="0" lang="fr-FR" sz="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Let me unveil its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generous and creamy texture 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that melts voluptuously onto your skin and leaves it with a feeling of absolute comfort and provides a continuous moisturizing effect.</a:t>
            </a:r>
            <a:r>
              <a:rPr b="0" lang="en-US" sz="8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Century Gothic"/>
              </a:rPr>
              <a:t>[Whilst applying Prodigy  Night Cream to the customer’s hand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Century Gothic"/>
              </a:rPr>
              <a:t>according to the Prodigy Night hand modelin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Century Gothic"/>
              </a:rPr>
              <a:t>Invite the customer to touch the prodigious velvety finis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pply Prodigy Night Cream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every night 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fter the serum Prodigy Powercell Night Shot,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according to the specific ritual to nourish and regenerate your skin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For a deep skin renewal, apply in the morning, </a:t>
            </a: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Prodigy powercell serum 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and </a:t>
            </a: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Prodigy cream,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 over the face and neck using upwards smoothing movements. Use the entire surface of the hand, working from the neck towards the forehead, avoiding the eye contou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For the delicate eye zone, apply a small amount of the </a:t>
            </a: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Prodigy eye balm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 texture with the tip of the fingers, working from the inner to the outer corner of the eye, for an instant anti-ageing and smoothing effect.”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0"/>
          <p:cNvSpPr/>
          <p:nvPr/>
        </p:nvSpPr>
        <p:spPr>
          <a:xfrm>
            <a:off x="7164360" y="3094560"/>
            <a:ext cx="3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 2"/>
                <a:ea typeface="Wingdings 2"/>
              </a:rPr>
              <a:t>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0"/>
          <p:cNvSpPr/>
          <p:nvPr/>
        </p:nvSpPr>
        <p:spPr>
          <a:xfrm>
            <a:off x="6168960" y="307044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"/>
                <a:ea typeface="Wingdings"/>
              </a:rPr>
              <a:t>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16" descr="110154-02-helenarubinstein-nightshot"/>
          <p:cNvPicPr/>
          <p:nvPr/>
        </p:nvPicPr>
        <p:blipFill>
          <a:blip r:embed="rId7"/>
          <a:srcRect l="29744" t="11453" r="28025" b="21011"/>
          <a:stretch/>
        </p:blipFill>
        <p:spPr>
          <a:xfrm>
            <a:off x="6816600" y="2209680"/>
            <a:ext cx="513000" cy="1092240"/>
          </a:xfrm>
          <a:prstGeom prst="rect">
            <a:avLst/>
          </a:prstGeom>
          <a:ln w="0">
            <a:noFill/>
          </a:ln>
        </p:spPr>
      </p:pic>
      <p:sp>
        <p:nvSpPr>
          <p:cNvPr id="127" name="Arrondir un rectangle avec un coin diagonal 37"/>
          <p:cNvSpPr/>
          <p:nvPr/>
        </p:nvSpPr>
        <p:spPr>
          <a:xfrm>
            <a:off x="69840" y="8069400"/>
            <a:ext cx="7405560" cy="2554200"/>
          </a:xfrm>
          <a:custGeom>
            <a:avLst/>
            <a:gdLst/>
            <a:ahLst/>
            <a:rect l="l" t="t" r="r" b="b"/>
            <a:pathLst>
              <a:path w="5784850" h="2081212">
                <a:moveTo>
                  <a:pt x="346876" y="0"/>
                </a:moveTo>
                <a:lnTo>
                  <a:pt x="5784850" y="0"/>
                </a:lnTo>
                <a:lnTo>
                  <a:pt x="5784850" y="1734336"/>
                </a:lnTo>
                <a:cubicBezTo>
                  <a:pt x="5784850" y="1925910"/>
                  <a:pt x="5629548" y="2081212"/>
                  <a:pt x="5437974" y="2081212"/>
                </a:cubicBezTo>
                <a:lnTo>
                  <a:pt x="0" y="2081212"/>
                </a:lnTo>
                <a:lnTo>
                  <a:pt x="0" y="346876"/>
                </a:lnTo>
                <a:cubicBezTo>
                  <a:pt x="0" y="155302"/>
                  <a:pt x="155302" y="0"/>
                  <a:pt x="346876" y="0"/>
                </a:cubicBez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e 4"/>
          <p:cNvGrpSpPr/>
          <p:nvPr/>
        </p:nvGrpSpPr>
        <p:grpSpPr>
          <a:xfrm>
            <a:off x="4778280" y="8877240"/>
            <a:ext cx="957240" cy="717480"/>
            <a:chOff x="4778280" y="8877240"/>
            <a:chExt cx="957240" cy="717480"/>
          </a:xfrm>
        </p:grpSpPr>
        <p:pic>
          <p:nvPicPr>
            <p:cNvPr id="129" name="Picture 55" descr="N:\DPLI_Formation_HR_BIO\Users\claire.imbert\1- INFOS  ET FILMS PRODUITS\1- SOIN\5- PRODIGY RENOVATION\CUSTOMER EXPERIENCE\DSC07857.JPG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4778280" y="8877240"/>
              <a:ext cx="95724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Flèche courbée vers le bas 77"/>
            <p:cNvSpPr/>
            <p:nvPr/>
          </p:nvSpPr>
          <p:spPr>
            <a:xfrm rot="15388800">
              <a:off x="5076720" y="9072000"/>
              <a:ext cx="349200" cy="164880"/>
            </a:xfrm>
            <a:custGeom>
              <a:avLst/>
              <a:gdLst>
                <a:gd name="textAreaLeft" fmla="*/ 72360 w 349200"/>
                <a:gd name="textAreaRight" fmla="*/ 257040 w 349200"/>
                <a:gd name="textAreaTop" fmla="*/ 21960 h 164880"/>
                <a:gd name="textAreaBottom" fmla="*/ 142920 h 16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66" hR="21600" stAng="10800000" swAng="5400000"/>
                  <a:lnTo>
                    <a:pt x="11411" y="0"/>
                  </a:lnTo>
                  <a:arcTo wR="8966" hR="21600" stAng="-5400000" swAng="3487036"/>
                  <a:lnTo>
                    <a:pt x="21315" y="16200"/>
                  </a:lnTo>
                  <a:lnTo>
                    <a:pt x="19155" y="21600"/>
                  </a:lnTo>
                  <a:lnTo>
                    <a:pt x="16424" y="16200"/>
                  </a:lnTo>
                  <a:lnTo>
                    <a:pt x="17647" y="16200"/>
                  </a:lnTo>
                  <a:arcTo wR="8966" hR="21600" stAng="-1912964" swAng="-3290848"/>
                  <a:lnTo>
                    <a:pt x="10189" y="202"/>
                  </a:lnTo>
                  <a:arcTo wR="8966" hR="21600" stAng="-5596188" swAng="-5203812"/>
                  <a:close/>
                </a:path>
                <a:path fill="darkenLess" w="21600" h="21600">
                  <a:moveTo>
                    <a:pt x="0" y="21600"/>
                  </a:moveTo>
                  <a:arcTo wR="8966" hR="21600" stAng="10800000" swAng="5400000"/>
                  <a:lnTo>
                    <a:pt x="8966" y="0"/>
                  </a:lnTo>
                  <a:arcTo wR="8966" hR="21600" stAng="-5400000" swAng="196188"/>
                  <a:lnTo>
                    <a:pt x="10189" y="202"/>
                  </a:lnTo>
                  <a:arcTo wR="8966" hR="21600" stAng="-5596188" swAng="-5203812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60" descr="N:\DPLI_Formation_HR_BIO\Users\claire.imbert\1- INFOS  ET FILMS PRODUITS\1- SOIN\5- PRODIGY RENOVATION\CUSTOMER EXPERIENCE\DSC07863.JPG"/>
          <p:cNvPicPr/>
          <p:nvPr/>
        </p:nvPicPr>
        <p:blipFill>
          <a:blip r:embed="rId9">
            <a:grayscl/>
          </a:blip>
          <a:stretch/>
        </p:blipFill>
        <p:spPr>
          <a:xfrm>
            <a:off x="6216480" y="9269280"/>
            <a:ext cx="960480" cy="72072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93"/>
          <p:cNvSpPr/>
          <p:nvPr/>
        </p:nvSpPr>
        <p:spPr>
          <a:xfrm>
            <a:off x="4500720" y="8099280"/>
            <a:ext cx="16920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The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 generous and creamy texture</a:t>
            </a: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melts 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voluptuously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 into the skin to procure an absolute comfort 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and provides a continuous moisturizing effect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97"/>
          <p:cNvSpPr/>
          <p:nvPr/>
        </p:nvSpPr>
        <p:spPr>
          <a:xfrm>
            <a:off x="6118200" y="9972720"/>
            <a:ext cx="1297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Prodigy Night cream defends telomeres during the night to maintain cell vitality &amp; skin quality for a restored skin.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8"/>
          <p:cNvSpPr/>
          <p:nvPr/>
        </p:nvSpPr>
        <p:spPr>
          <a:xfrm>
            <a:off x="4726080" y="8675640"/>
            <a:ext cx="1079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2. Light effleurag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99"/>
          <p:cNvSpPr/>
          <p:nvPr/>
        </p:nvSpPr>
        <p:spPr>
          <a:xfrm>
            <a:off x="4608360" y="9667800"/>
            <a:ext cx="132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3. Enveloping movem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01"/>
          <p:cNvSpPr/>
          <p:nvPr/>
        </p:nvSpPr>
        <p:spPr>
          <a:xfrm>
            <a:off x="6118200" y="8083440"/>
            <a:ext cx="132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4. Swiping movem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02"/>
          <p:cNvSpPr/>
          <p:nvPr/>
        </p:nvSpPr>
        <p:spPr>
          <a:xfrm>
            <a:off x="6118200" y="9066240"/>
            <a:ext cx="155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5. Deep pressure movem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e 1"/>
          <p:cNvGrpSpPr/>
          <p:nvPr/>
        </p:nvGrpSpPr>
        <p:grpSpPr>
          <a:xfrm>
            <a:off x="4778280" y="9883800"/>
            <a:ext cx="960480" cy="719280"/>
            <a:chOff x="4778280" y="9883800"/>
            <a:chExt cx="960480" cy="719280"/>
          </a:xfrm>
        </p:grpSpPr>
        <p:pic>
          <p:nvPicPr>
            <p:cNvPr id="139" name="Picture 57" descr="N:\DPLI_Formation_HR_BIO\Users\claire.imbert\1- INFOS  ET FILMS PRODUITS\1- SOIN\5- PRODIGY RENOVATION\CUSTOMER EXPERIENCE\DSC07859.JPG"/>
            <p:cNvPicPr/>
            <p:nvPr/>
          </p:nvPicPr>
          <p:blipFill>
            <a:blip r:embed="rId10">
              <a:grayscl/>
            </a:blip>
            <a:stretch/>
          </p:blipFill>
          <p:spPr>
            <a:xfrm>
              <a:off x="4778280" y="9883800"/>
              <a:ext cx="9604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Flèche courbée vers le bas 89"/>
            <p:cNvSpPr/>
            <p:nvPr/>
          </p:nvSpPr>
          <p:spPr>
            <a:xfrm rot="13754400">
              <a:off x="4882680" y="10096560"/>
              <a:ext cx="349200" cy="164880"/>
            </a:xfrm>
            <a:custGeom>
              <a:avLst/>
              <a:gdLst>
                <a:gd name="textAreaLeft" fmla="*/ 72360 w 349200"/>
                <a:gd name="textAreaRight" fmla="*/ 257040 w 349200"/>
                <a:gd name="textAreaTop" fmla="*/ 21960 h 164880"/>
                <a:gd name="textAreaBottom" fmla="*/ 142920 h 16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66" hR="21600" stAng="10800000" swAng="5400000"/>
                  <a:lnTo>
                    <a:pt x="11411" y="0"/>
                  </a:lnTo>
                  <a:arcTo wR="8966" hR="21600" stAng="-5400000" swAng="3487036"/>
                  <a:lnTo>
                    <a:pt x="21315" y="16200"/>
                  </a:lnTo>
                  <a:lnTo>
                    <a:pt x="19155" y="21600"/>
                  </a:lnTo>
                  <a:lnTo>
                    <a:pt x="16424" y="16200"/>
                  </a:lnTo>
                  <a:lnTo>
                    <a:pt x="17647" y="16200"/>
                  </a:lnTo>
                  <a:arcTo wR="8966" hR="21600" stAng="-1912964" swAng="-3290848"/>
                  <a:lnTo>
                    <a:pt x="10189" y="202"/>
                  </a:lnTo>
                  <a:arcTo wR="8966" hR="21600" stAng="-5596188" swAng="-5203812"/>
                  <a:close/>
                </a:path>
                <a:path fill="darkenLess" w="21600" h="21600">
                  <a:moveTo>
                    <a:pt x="0" y="21600"/>
                  </a:moveTo>
                  <a:arcTo wR="8966" hR="21600" stAng="10800000" swAng="5400000"/>
                  <a:lnTo>
                    <a:pt x="8966" y="0"/>
                  </a:lnTo>
                  <a:arcTo wR="8966" hR="21600" stAng="-5400000" swAng="196188"/>
                  <a:lnTo>
                    <a:pt x="10189" y="202"/>
                  </a:lnTo>
                  <a:arcTo wR="8966" hR="21600" stAng="-5596188" swAng="-5203812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e 5"/>
          <p:cNvGrpSpPr/>
          <p:nvPr/>
        </p:nvGrpSpPr>
        <p:grpSpPr>
          <a:xfrm>
            <a:off x="6237360" y="8299440"/>
            <a:ext cx="960480" cy="719280"/>
            <a:chOff x="6237360" y="8299440"/>
            <a:chExt cx="960480" cy="719280"/>
          </a:xfrm>
        </p:grpSpPr>
        <p:pic>
          <p:nvPicPr>
            <p:cNvPr id="142" name="Picture 59" descr="N:\DPLI_Formation_HR_BIO\Users\claire.imbert\1- INFOS  ET FILMS PRODUITS\1- SOIN\5- PRODIGY RENOVATION\CUSTOMER EXPERIENCE\DSC07861.JPG"/>
            <p:cNvPicPr/>
            <p:nvPr/>
          </p:nvPicPr>
          <p:blipFill>
            <a:blip r:embed="rId11">
              <a:grayscl/>
            </a:blip>
            <a:stretch/>
          </p:blipFill>
          <p:spPr>
            <a:xfrm>
              <a:off x="6237360" y="8299440"/>
              <a:ext cx="9604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Flèche courbée vers le bas 92"/>
            <p:cNvSpPr/>
            <p:nvPr/>
          </p:nvSpPr>
          <p:spPr>
            <a:xfrm rot="12829200">
              <a:off x="6458040" y="8470440"/>
              <a:ext cx="295200" cy="135000"/>
            </a:xfrm>
            <a:custGeom>
              <a:avLst/>
              <a:gdLst>
                <a:gd name="textAreaLeft" fmla="*/ 61560 w 295200"/>
                <a:gd name="textAreaRight" fmla="*/ 217440 w 295200"/>
                <a:gd name="textAreaTop" fmla="*/ 18000 h 135000"/>
                <a:gd name="textAreaBottom" fmla="*/ 11700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27" hR="21600" stAng="10800000" swAng="5400000"/>
                  <a:lnTo>
                    <a:pt x="11391" y="0"/>
                  </a:lnTo>
                  <a:arcTo wR="9027" hR="21600" stAng="-5400000" swAng="3497474"/>
                  <a:lnTo>
                    <a:pt x="21313" y="16200"/>
                  </a:lnTo>
                  <a:lnTo>
                    <a:pt x="19236" y="21600"/>
                  </a:lnTo>
                  <a:lnTo>
                    <a:pt x="16585" y="16200"/>
                  </a:lnTo>
                  <a:lnTo>
                    <a:pt x="17767" y="16200"/>
                  </a:lnTo>
                  <a:arcTo wR="9027" hR="21600" stAng="-1902526" swAng="-3307912"/>
                  <a:lnTo>
                    <a:pt x="10209" y="186"/>
                  </a:lnTo>
                  <a:arcTo wR="9027" hR="21600" stAng="-5589563" swAng="-5210437"/>
                  <a:close/>
                </a:path>
                <a:path fill="darkenLess" w="21600" h="21600">
                  <a:moveTo>
                    <a:pt x="0" y="21600"/>
                  </a:moveTo>
                  <a:arcTo wR="9027" hR="21600" stAng="10800000" swAng="5400000"/>
                  <a:lnTo>
                    <a:pt x="9027" y="0"/>
                  </a:lnTo>
                  <a:arcTo wR="9027" hR="21600" stAng="-5400000" swAng="189563"/>
                  <a:lnTo>
                    <a:pt x="10209" y="186"/>
                  </a:lnTo>
                  <a:arcTo wR="9027" hR="21600" stAng="-5589563" swAng="-5210437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lèche courbée vers le bas 93"/>
            <p:cNvSpPr/>
            <p:nvPr/>
          </p:nvSpPr>
          <p:spPr>
            <a:xfrm flipV="1" rot="12829800">
              <a:off x="6378120" y="8642160"/>
              <a:ext cx="295200" cy="136440"/>
            </a:xfrm>
            <a:custGeom>
              <a:avLst/>
              <a:gdLst>
                <a:gd name="textAreaLeft" fmla="*/ 61560 w 295200"/>
                <a:gd name="textAreaRight" fmla="*/ 217440 w 295200"/>
                <a:gd name="textAreaTop" fmla="*/ 18000 h 136440"/>
                <a:gd name="textAreaBottom" fmla="*/ 11844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06" hR="21600" stAng="10800000" swAng="5400000"/>
                  <a:lnTo>
                    <a:pt x="11398" y="0"/>
                  </a:lnTo>
                  <a:arcTo wR="9006" hR="21600" stAng="-5400000" swAng="3493892"/>
                  <a:lnTo>
                    <a:pt x="21314" y="16200"/>
                  </a:lnTo>
                  <a:lnTo>
                    <a:pt x="19208" y="21600"/>
                  </a:lnTo>
                  <a:lnTo>
                    <a:pt x="16530" y="16200"/>
                  </a:lnTo>
                  <a:lnTo>
                    <a:pt x="17726" y="16200"/>
                  </a:lnTo>
                  <a:arcTo wR="9006" hR="21600" stAng="-1906108" swAng="-3302041"/>
                  <a:lnTo>
                    <a:pt x="10202" y="191"/>
                  </a:lnTo>
                  <a:arcTo wR="9006" hR="21600" stAng="-5591851" swAng="-5208149"/>
                  <a:close/>
                </a:path>
                <a:path fill="darkenLess" w="21600" h="21600">
                  <a:moveTo>
                    <a:pt x="0" y="21600"/>
                  </a:moveTo>
                  <a:arcTo wR="9006" hR="21600" stAng="10800000" swAng="5400000"/>
                  <a:lnTo>
                    <a:pt x="9006" y="0"/>
                  </a:lnTo>
                  <a:arcTo wR="9006" hR="21600" stAng="-5400000" swAng="191851"/>
                  <a:lnTo>
                    <a:pt x="10202" y="191"/>
                  </a:lnTo>
                  <a:arcTo wR="9006" hR="21600" stAng="-5591851" swAng="-5208149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3" descr="C:\Documents and Settings\claire.imbert\Mes documents\Mes images\vlcsnap-173766.png"/>
          <p:cNvPicPr/>
          <p:nvPr/>
        </p:nvPicPr>
        <p:blipFill>
          <a:blip r:embed="rId12">
            <a:grayscl/>
          </a:blip>
          <a:srcRect l="23465" t="14603" r="13107" b="19543"/>
          <a:stretch/>
        </p:blipFill>
        <p:spPr>
          <a:xfrm>
            <a:off x="1889280" y="8837640"/>
            <a:ext cx="995040" cy="75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6" name="Rectangle 3"/>
          <p:cNvSpPr/>
          <p:nvPr/>
        </p:nvSpPr>
        <p:spPr>
          <a:xfrm>
            <a:off x="101520" y="8442360"/>
            <a:ext cx="1492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- Disinfect your hands with hydro alcoholic lotion in front of the custome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- Prepare the workstation with a paper tissu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- Make sure that all your products and items are prepar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52"/>
          <p:cNvSpPr/>
          <p:nvPr/>
        </p:nvSpPr>
        <p:spPr>
          <a:xfrm>
            <a:off x="270000" y="8145360"/>
            <a:ext cx="13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1. PREPA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7" descr="F:\HR CLAIRE\PHOTOS SCENARIO DE VENTE PRO FILLER\DSC09237.JPG"/>
          <p:cNvPicPr/>
          <p:nvPr/>
        </p:nvPicPr>
        <p:blipFill>
          <a:blip r:embed="rId13">
            <a:grayscl/>
          </a:blip>
          <a:stretch/>
        </p:blipFill>
        <p:spPr>
          <a:xfrm>
            <a:off x="314280" y="9591840"/>
            <a:ext cx="866880" cy="650880"/>
          </a:xfrm>
          <a:prstGeom prst="rect">
            <a:avLst/>
          </a:prstGeom>
          <a:ln w="0">
            <a:noFill/>
          </a:ln>
        </p:spPr>
      </p:pic>
      <p:sp>
        <p:nvSpPr>
          <p:cNvPr id="149" name="ZoneTexte 1"/>
          <p:cNvSpPr/>
          <p:nvPr/>
        </p:nvSpPr>
        <p:spPr>
          <a:xfrm>
            <a:off x="1763640" y="8083440"/>
            <a:ext cx="129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2. PRODIGY POWERCEL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SER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58"/>
          <p:cNvSpPr/>
          <p:nvPr/>
        </p:nvSpPr>
        <p:spPr>
          <a:xfrm>
            <a:off x="3036960" y="8083440"/>
            <a:ext cx="1752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3. PRODIG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NIGH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C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801800" y="9575640"/>
            <a:ext cx="122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I’m applying Prodigy Powercell serum, a fresh silky essence that melts instantly onto the skin to boost your skin before the cream.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6" descr="PRODIGY_POWERCELL"/>
          <p:cNvPicPr/>
          <p:nvPr/>
        </p:nvPicPr>
        <p:blipFill>
          <a:blip r:embed="rId14"/>
          <a:stretch/>
        </p:blipFill>
        <p:spPr>
          <a:xfrm>
            <a:off x="1874880" y="8056440"/>
            <a:ext cx="177840" cy="422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F:\HR CLAIRE\SHOOTING SCENRIO DE SERVICE MAI 2012\RETOUCHE01\PHOTOS_RETOUCHEES\DSC7383.jpg"/>
          <p:cNvPicPr/>
          <p:nvPr/>
        </p:nvPicPr>
        <p:blipFill>
          <a:blip r:embed="rId15">
            <a:grayscl/>
          </a:blip>
          <a:srcRect l="41482" t="58928" r="43524" b="24322"/>
          <a:stretch/>
        </p:blipFill>
        <p:spPr>
          <a:xfrm>
            <a:off x="3348000" y="8837640"/>
            <a:ext cx="1019160" cy="757080"/>
          </a:xfrm>
          <a:prstGeom prst="rect">
            <a:avLst/>
          </a:prstGeom>
          <a:ln w="0">
            <a:noFill/>
          </a:ln>
        </p:spPr>
      </p:pic>
      <p:sp>
        <p:nvSpPr>
          <p:cNvPr id="154" name="ZoneTexte 98"/>
          <p:cNvSpPr/>
          <p:nvPr/>
        </p:nvSpPr>
        <p:spPr>
          <a:xfrm>
            <a:off x="3222720" y="8675640"/>
            <a:ext cx="127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1. Texture applic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43"/>
          <p:cNvSpPr/>
          <p:nvPr/>
        </p:nvSpPr>
        <p:spPr>
          <a:xfrm>
            <a:off x="3243240" y="9594720"/>
            <a:ext cx="118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I’m applying 5 points to illustrate the 5 active ingredients of the Molecular Nocta-Sap.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G:\DPLI_Commun_PCI_HR\Service\Commun_HR\2.EDUCATION\01- SKINCARE\PRODIGY\THE NEW PRODIGY NIGHT EN COURS (CAMILLE + DAMIEN)\ELEMENTS PRODIGY NIGHT DE VOLKIER AU 2 JUILLET\POTS\FERME\PGYNIGHT_POT%20FERME%202805[1].PNG"/>
          <p:cNvPicPr/>
          <p:nvPr/>
        </p:nvPicPr>
        <p:blipFill>
          <a:blip r:embed="rId16"/>
          <a:srcRect l="15309" t="11623" r="16612" b="14718"/>
          <a:stretch/>
        </p:blipFill>
        <p:spPr>
          <a:xfrm>
            <a:off x="3189240" y="8077320"/>
            <a:ext cx="374760" cy="387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0"/>
          <p:cNvSpPr/>
          <p:nvPr/>
        </p:nvSpPr>
        <p:spPr>
          <a:xfrm>
            <a:off x="6692040" y="7659720"/>
            <a:ext cx="747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ffffff"/>
                </a:solidFill>
                <a:latin typeface="Century Gothic"/>
              </a:rPr>
              <a:t>*in-vitro te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50:38Z</dcterms:created>
  <dc:creator>Utilisateur Windows</dc:creator>
  <dc:description/>
  <cp:keywords/>
  <dc:language>en-US</dc:language>
  <cp:lastModifiedBy>IMBERT Claire</cp:lastModifiedBy>
  <cp:lastPrinted>2012-07-20T18:26:58Z</cp:lastPrinted>
  <dcterms:modified xsi:type="dcterms:W3CDTF">2012-11-12T12:14:30Z</dcterms:modified>
  <cp:revision>545</cp:revision>
  <dc:subject/>
  <dc:title>Diapositive 1</dc:title>
</cp:coreProperties>
</file>